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7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3.png" ContentType="image/png"/>
  <Override PartName="/ppt/media/image8.wmf" ContentType="image/x-wmf"/>
  <Override PartName="/ppt/media/image30.png" ContentType="image/png"/>
  <Override PartName="/ppt/media/image20.jpeg" ContentType="image/jpeg"/>
  <Override PartName="/ppt/media/image31.jpeg" ContentType="image/jpeg"/>
  <Override PartName="/ppt/media/image2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media/image24.png" ContentType="image/pn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B541-89ED-4763-BC2D-781D09DB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00FF-04A2-41E8-B0CF-06CD858B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592F-3F7A-40E6-9374-E9035649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3803-D6B3-4E74-967F-1284872D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FECA-CE71-4D98-8BFE-3F0F494B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4498-2662-468E-88FB-01341774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D06C-68A2-411F-9853-BBEB5011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D92B-EE25-4970-A530-C3D54FB4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5D43-3B75-4700-AE3C-888165B3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20B0-0432-451F-90C8-6881AE2D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A0E5-7672-40DF-9A3B-C5C30D14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9CE8-292F-419C-88CC-02B81EE8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4775-8866-4E61-92FC-F04CE8E9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ECAE-F30D-4811-8EB1-8028EBE1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7CA3-E0FB-4B93-A1BB-5837FF6A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754D-53CE-41DA-B6FB-4BC0A1B2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EB46-A663-46FA-BC66-2670A5DD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AB71F-9376-4C30-ABA3-C1CB1A1E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71D4F-7F16-47D6-935A-08A2134B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3E876-BB8F-4A31-B3CD-5B9F380F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2E5B4-5C8B-4B51-8CA7-AEBC59C4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0BFF5-6012-47C6-A590-82C7F952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01C9-4F09-42AF-8F69-EA7C33B7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8956E-A930-434E-86E1-4A6C04C9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D341C-1867-460D-A544-C7BB151A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924A5-1B5E-4733-AD8A-A5D071D9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80A7F-2990-4A92-B934-76FA8561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7A32E-727C-41F4-9305-E8754069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C91AF-BDF8-405E-BE23-2EFCF215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DE7F7-6673-42F2-9F59-8526F22E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529F9-01A7-4F7E-B547-112ABE94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05ED4-CC02-451B-985B-68814D5F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E36C8-945E-4323-A824-F1196021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BFAD-0B71-4980-9922-3C9C82E4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60CB0-68D9-4A69-9D71-96F6440A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4A08E-3A93-4EF9-AEE6-31167BFF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7959F-AEFE-47CD-80CB-BE24EE27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8ABD9-A2D1-4B4F-83DA-C6BC159D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44651-9572-45E0-824B-ECCED185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B71EE-2C9E-4244-AC5D-53442A58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4625C-3F96-48E6-9134-B64EF3FD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53B6A-24F6-4762-A3B5-CC557894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DACE7-09B8-491E-A1CC-6BC195CE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50537-C5F2-4F42-A4C0-0C0D5F1C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D889-1788-4DBD-B500-3208B91C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1C40A-48CF-4DFA-B8C5-F0F073D5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BDB19-AFDA-460B-B612-C8B9F3AC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3ABA5-7C5B-4BF5-812C-FCC1A182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4B220-EB2D-446C-B9CD-BEF5FE7B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9C29C-CB52-4495-9B62-F9F250B8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5B4FB-D231-414C-BF4B-102E20EA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6C55C-160D-4396-B0FB-BD0478B5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83ECF-097E-43A4-9C18-507319DA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90E99-D326-4877-A4C9-5C86BB59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51073-92F6-4DAD-AD91-7192750C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3336-715E-482A-8C82-D52AB6C4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985AE-0243-438C-BBDD-CE179479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BF773-F9F9-4405-93B8-82BAEF42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2C949-10DB-469A-849F-DBF03A31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60EBA-8C64-4911-BB4A-0DADD6CC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8CEE8-143C-4822-8DDE-A5A3E4E7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FF804-33C4-494B-896E-1464CF68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EC834-FAFC-48ED-816D-9B96C30A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8FA29-0E68-49F5-9A2C-F1AFA9EB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E97A6-1996-42C1-A40E-8CA07B56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41632-F81E-4F45-8206-95F92029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814F-E6C2-4ABB-BC56-254C8D34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F83B0-A4B2-47B5-9743-F9322330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228E7-F353-4DD7-9301-99341FCF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F38AA-6A98-47F1-B2CA-9079265E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07A13-DE65-4FE3-BDBD-3534CC97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8535C-438C-46D8-910C-C3DA2DF9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5097E-98BB-4182-9C0B-EB197C1E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0D3BA-AD6A-45A7-BF39-92EF6CB6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D63F1-5CED-4B1A-9516-8F602669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A5A9C-AD32-427A-8D83-5FD4B8C3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B8814-0A2E-4E4E-9587-479285E6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4513-D090-44F5-8933-A9434B5B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4BE92-F464-46B6-A6F0-E6C3DB24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F4C4F-7419-4E97-82B3-8658C7F9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34925-3DBA-4ADC-AD1A-5FECAB87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EF363-C34F-4FF1-BD9A-D0A753AD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58B0A-5957-4E1F-A585-A107E09C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DF5-0608-4597-97FF-38F28BCB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11B6-821F-491D-9FDE-D161E81F2EA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4336-B09F-4B43-92AE-434E62A70E3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DB3A-D70A-4FC1-89D2-F42BFDE0AD0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2F87-0422-4B8C-B68C-9AD1D34DE93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4CDD-7C80-4BF5-A17D-D3C2A161B8B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A548-FFCE-4A5F-A175-0761D41FF53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8455-A673-4BE4-9135-A2B17077C63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oher.ru/nat-volokna/sherst.shtml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3" descr="C:\Users\Настя\Desktop\1246604429_1869b.jpg"/>
          <p:cNvPicPr/>
          <p:nvPr/>
        </p:nvPicPr>
        <p:blipFill>
          <a:blip r:embed="rId1"/>
          <a:stretch/>
        </p:blipFill>
        <p:spPr>
          <a:xfrm>
            <a:off x="1116000" y="189000"/>
            <a:ext cx="4194360" cy="6048360"/>
          </a:xfrm>
          <a:prstGeom prst="rect">
            <a:avLst/>
          </a:prstGeom>
          <a:ln w="0">
            <a:noFill/>
          </a:ln>
        </p:spPr>
      </p:pic>
      <p:sp>
        <p:nvSpPr>
          <p:cNvPr id="319" name="WordArt 5"/>
          <p:cNvSpPr txBox="1"/>
          <p:nvPr/>
        </p:nvSpPr>
        <p:spPr>
          <a:xfrm>
            <a:off x="214200" y="3643200"/>
            <a:ext cx="87138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ирты. Польза и вре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600" y="274320"/>
            <a:ext cx="5565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енная промышленность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57160" y="1500120"/>
            <a:ext cx="6858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троглицерин</a:t>
            </a:r>
            <a:r>
              <a:rPr b="0" lang="ru-RU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основной компонент динамита, применяемого в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горном деле;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железнодорожном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строительстве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фармаколог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киноиндустр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5" descr="C:\Users\Настя\Desktop\динамит.jpg"/>
          <p:cNvPicPr/>
          <p:nvPr/>
        </p:nvPicPr>
        <p:blipFill>
          <a:blip r:embed="rId1"/>
          <a:stretch/>
        </p:blipFill>
        <p:spPr>
          <a:xfrm>
            <a:off x="5003640" y="2786040"/>
            <a:ext cx="3926160" cy="364320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4"/>
          <p:cNvSpPr/>
          <p:nvPr/>
        </p:nvSpPr>
        <p:spPr>
          <a:xfrm>
            <a:off x="7153200" y="214200"/>
            <a:ext cx="177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«Адвока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79640" y="1989000"/>
            <a:ext cx="511344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троглицери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213920" y="2857320"/>
            <a:ext cx="7410600" cy="34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-54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ен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42880" indent="-54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резвычайно мощное и опасное в получении взрывчатое вещество – взрывается от удара, толчка, перепада температуры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Picture 2" descr="C:\Documents and Settings\Admin\Рабочий стол\Новая папка\bottle.jpg"/>
          <p:cNvPicPr/>
          <p:nvPr/>
        </p:nvPicPr>
        <p:blipFill>
          <a:blip r:embed="rId1"/>
          <a:stretch/>
        </p:blipFill>
        <p:spPr>
          <a:xfrm>
            <a:off x="7143840" y="285840"/>
            <a:ext cx="1834920" cy="2638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C:\Documents and Settings\Admin\Рабочий стол\10а\200px-Nirtoglycerin_3D_BallStick.png"/>
          <p:cNvPicPr/>
          <p:nvPr/>
        </p:nvPicPr>
        <p:blipFill>
          <a:blip r:embed="rId2"/>
          <a:stretch/>
        </p:blipFill>
        <p:spPr>
          <a:xfrm>
            <a:off x="225360" y="609480"/>
            <a:ext cx="3194280" cy="25671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C:\Documents and Settings\Admin\Рабочий стол\10а\5175339_1_3.jpg"/>
          <p:cNvPicPr/>
          <p:nvPr/>
        </p:nvPicPr>
        <p:blipFill>
          <a:blip r:embed="rId3"/>
          <a:stretch/>
        </p:blipFill>
        <p:spPr>
          <a:xfrm>
            <a:off x="3571920" y="4500720"/>
            <a:ext cx="3786120" cy="185724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6"/>
          <p:cNvSpPr/>
          <p:nvPr/>
        </p:nvSpPr>
        <p:spPr>
          <a:xfrm>
            <a:off x="1370520" y="28584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Обвините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щевая промышленность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71360" y="928440"/>
            <a:ext cx="42145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но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дитерских изделиях,  придает   мягкос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рби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 людей, больных диабетом и страдающих  ожирение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ицерин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ает консистенцию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ся для получения пищевых ПА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Picture 2" descr="C:\Users\Настя\Desktop\image.24037.jpg"/>
          <p:cNvPicPr/>
          <p:nvPr/>
        </p:nvPicPr>
        <p:blipFill>
          <a:blip r:embed="rId1"/>
          <a:stretch/>
        </p:blipFill>
        <p:spPr>
          <a:xfrm>
            <a:off x="6929280" y="1643040"/>
            <a:ext cx="1785960" cy="1868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C:\Users\Настя\Desktop\1173977852.jpg"/>
          <p:cNvPicPr/>
          <p:nvPr/>
        </p:nvPicPr>
        <p:blipFill>
          <a:blip r:embed="rId2"/>
          <a:stretch/>
        </p:blipFill>
        <p:spPr>
          <a:xfrm>
            <a:off x="5000760" y="1643040"/>
            <a:ext cx="1643040" cy="1857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Users\Настя\Desktop\1084193395_big.jpg"/>
          <p:cNvPicPr/>
          <p:nvPr/>
        </p:nvPicPr>
        <p:blipFill>
          <a:blip r:embed="rId3"/>
          <a:stretch/>
        </p:blipFill>
        <p:spPr>
          <a:xfrm>
            <a:off x="5214960" y="3857760"/>
            <a:ext cx="3143160" cy="225252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9"/>
          <p:cNvSpPr/>
          <p:nvPr/>
        </p:nvSpPr>
        <p:spPr>
          <a:xfrm>
            <a:off x="7509240" y="21420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Адвок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C:\Users\Настя\Desktop\топлевные смеси этанола.jpeg"/>
          <p:cNvPicPr/>
          <p:nvPr/>
        </p:nvPicPr>
        <p:blipFill>
          <a:blip r:embed="rId1"/>
          <a:srcRect l="0" t="0" r="0" b="15389"/>
          <a:stretch/>
        </p:blipFill>
        <p:spPr>
          <a:xfrm>
            <a:off x="3286080" y="1285920"/>
            <a:ext cx="2714760" cy="2357280"/>
          </a:xfrm>
          <a:prstGeom prst="rect">
            <a:avLst/>
          </a:prstGeom>
          <a:ln w="0">
            <a:noFill/>
          </a:ln>
        </p:spPr>
      </p:pic>
      <p:pic>
        <p:nvPicPr>
          <p:cNvPr id="386" name="Заголовок 1" descr=""/>
          <p:cNvPicPr/>
          <p:nvPr/>
        </p:nvPicPr>
        <p:blipFill>
          <a:blip r:embed="rId2"/>
          <a:stretch/>
        </p:blipFill>
        <p:spPr>
          <a:xfrm>
            <a:off x="1420920" y="420840"/>
            <a:ext cx="5583240" cy="100008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4"/>
          <p:cNvSpPr/>
          <p:nvPr/>
        </p:nvSpPr>
        <p:spPr>
          <a:xfrm>
            <a:off x="1214280" y="4286160"/>
            <a:ext cx="7170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buClr>
                <a:srgbClr val="ff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Добавление этанола к бензину повышает его октановое число, </a:t>
            </a:r>
            <a:br>
              <a:rPr sz="3200"/>
            </a:b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т.е. увеличивает детонационную устойчив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4"/>
          <p:cNvSpPr/>
          <p:nvPr/>
        </p:nvSpPr>
        <p:spPr>
          <a:xfrm>
            <a:off x="7437960" y="28584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Адвок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3914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анол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115640" y="3357720"/>
            <a:ext cx="7697880" cy="28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ое действие метанола на организм человека связано с поражением нервной и сосудистой системы. Прием внутрь 5–10 мл метанола приводит к тяжелому отравлению (одно из последствий -– слепота), а 30 мл и более -– к смерт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оздухом метанол образует взрывоопасные смес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47840" indent="-44784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1" name="Picture 3" descr="C:\Documents and Settings\Admin\Рабочий стол\10а\methanol.gif"/>
          <p:cNvPicPr/>
          <p:nvPr/>
        </p:nvPicPr>
        <p:blipFill>
          <a:blip r:embed="rId1"/>
          <a:stretch/>
        </p:blipFill>
        <p:spPr>
          <a:xfrm>
            <a:off x="5407200" y="73080"/>
            <a:ext cx="3833640" cy="273060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4"/>
          <p:cNvSpPr/>
          <p:nvPr/>
        </p:nvSpPr>
        <p:spPr>
          <a:xfrm>
            <a:off x="1040760" y="2649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Corbel"/>
              </a:rPr>
              <a:t>«Обвините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мическая промышленност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071720" y="1523520"/>
            <a:ext cx="528624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иленгликол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компонентом антифриза и стеклоомывателе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, содержащий 25 % этиленгликоля, замерзает при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, а 55 %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т сырьём для получения ацетальдегида, диэтилового эфира,  уксусной кислоты, хлороформа, этилацетата, этиле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6443640" y="1139760"/>
            <a:ext cx="2054160" cy="4224240"/>
          </a:xfrm>
          <a:prstGeom prst="rect">
            <a:avLst/>
          </a:prstGeom>
          <a:ln w="0">
            <a:noFill/>
          </a:ln>
        </p:spPr>
      </p:pic>
      <p:sp>
        <p:nvSpPr>
          <p:cNvPr id="396" name="Прямоугольник 4"/>
          <p:cNvSpPr/>
          <p:nvPr/>
        </p:nvSpPr>
        <p:spPr>
          <a:xfrm>
            <a:off x="7080480" y="21420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Адвок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кстильная промышленност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786040" y="1285920"/>
            <a:ext cx="621504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всан – продукт поликонденсации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иленгликол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вухатомного спирта)  с терефталевой кислотой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е лавсан похож на </a:t>
            </a:r>
            <a:r>
              <a:rPr b="0" lang="ru-RU" sz="24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/>
              </a:rPr>
              <a:t>шер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более ноский и значительно меньше мнется, снижает способность ткани к усадке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всан используется для производства ремней, парусов, занавес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2"/>
          <a:stretch/>
        </p:blipFill>
        <p:spPr>
          <a:xfrm rot="4069200">
            <a:off x="850680" y="3662280"/>
            <a:ext cx="1484280" cy="283680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4"/>
          <p:cNvSpPr/>
          <p:nvPr/>
        </p:nvSpPr>
        <p:spPr>
          <a:xfrm>
            <a:off x="7152120" y="21420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Адвок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Гидрохинон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143000" y="5000760"/>
            <a:ext cx="7786800" cy="1428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625320" indent="-59832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Ароматический спирт </a:t>
            </a:r>
            <a:br>
              <a:rPr sz="2400"/>
            </a:b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используют при проявлении фотографий</a:t>
            </a:r>
            <a:r>
              <a:rPr b="0" lang="ru-RU" sz="3200" spc="-1" strike="noStrike">
                <a:solidFill>
                  <a:srgbClr val="320e04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3" name="Picture 2" descr="C:\Users\Настя\Desktop\Gidroxinon.jpg"/>
          <p:cNvPicPr/>
          <p:nvPr/>
        </p:nvPicPr>
        <p:blipFill>
          <a:blip r:embed="rId1"/>
          <a:stretch/>
        </p:blipFill>
        <p:spPr>
          <a:xfrm>
            <a:off x="5357880" y="1428840"/>
            <a:ext cx="2981160" cy="32860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404" name="Прямоугольник 4"/>
          <p:cNvSpPr/>
          <p:nvPr/>
        </p:nvSpPr>
        <p:spPr>
          <a:xfrm>
            <a:off x="7223400" y="28584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Адвок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C:\Documents and Settings\папа\Рабочий стол\68.jpg"/>
          <p:cNvPicPr/>
          <p:nvPr/>
        </p:nvPicPr>
        <p:blipFill>
          <a:blip r:embed="rId2"/>
          <a:stretch/>
        </p:blipFill>
        <p:spPr>
          <a:xfrm>
            <a:off x="2714760" y="2500200"/>
            <a:ext cx="2928960" cy="23338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406" name="Picture 7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2681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42640" y="764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Получение феноло-формальдегидной смол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187280" y="3141720"/>
            <a:ext cx="7805880" cy="328752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5"/>
          <p:cNvSpPr/>
          <p:nvPr/>
        </p:nvSpPr>
        <p:spPr>
          <a:xfrm>
            <a:off x="7528320" y="26028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Адвок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5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Спасибо за внимание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Парфюмерия и космети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116000" y="4357800"/>
            <a:ext cx="767088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ты являются универсальными растворителями различных веществ и основными компонентами духов, одеколонов, аэрозол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3429000" y="1143000"/>
            <a:ext cx="2597040" cy="300024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323" name="Прямоугольник 4"/>
          <p:cNvSpPr/>
          <p:nvPr/>
        </p:nvSpPr>
        <p:spPr>
          <a:xfrm>
            <a:off x="7223400" y="28584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Адвок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C:\Documents and Settings\Admin\Рабочий стол\10а\ethanol.jpg"/>
          <p:cNvPicPr/>
          <p:nvPr/>
        </p:nvPicPr>
        <p:blipFill>
          <a:blip r:embed="rId1"/>
          <a:stretch/>
        </p:blipFill>
        <p:spPr>
          <a:xfrm>
            <a:off x="5796000" y="4581360"/>
            <a:ext cx="3108240" cy="20224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но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071720" y="1447560"/>
            <a:ext cx="7500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нол взаимодействует почти со всеми лекарственными препаратами, что наносит огромный вред организм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анальгетиков (анальгин,  парацетамол) вместе со спиртными напитками приводит к тахикардии, появлению вялости, шума в ушах, может вызвать тяжёлые поражения печен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тяжелом отравлении этанолом наблюдаетс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атозное состоян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жа бледная, влажная, дыхание редкое, пульс частый, температура тела понижен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7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7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7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447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10" descr="j0304421"/>
          <p:cNvPicPr/>
          <p:nvPr/>
        </p:nvPicPr>
        <p:blipFill>
          <a:blip r:embed="rId2"/>
          <a:stretch/>
        </p:blipFill>
        <p:spPr>
          <a:xfrm>
            <a:off x="1476360" y="4508640"/>
            <a:ext cx="2143080" cy="2090520"/>
          </a:xfrm>
          <a:prstGeom prst="rect">
            <a:avLst/>
          </a:prstGeom>
          <a:ln w="0">
            <a:noFill/>
          </a:ln>
        </p:spPr>
      </p:pic>
      <p:pic>
        <p:nvPicPr>
          <p:cNvPr id="328" name="Object 3" descr=""/>
          <p:cNvPicPr/>
          <p:nvPr/>
        </p:nvPicPr>
        <p:blipFill>
          <a:blip r:embed="rId3"/>
          <a:stretch/>
        </p:blipFill>
        <p:spPr>
          <a:xfrm>
            <a:off x="7715160" y="142920"/>
            <a:ext cx="1222560" cy="151272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6"/>
          <p:cNvSpPr/>
          <p:nvPr/>
        </p:nvSpPr>
        <p:spPr>
          <a:xfrm>
            <a:off x="1370520" y="214200"/>
            <a:ext cx="18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Обвините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5"/>
          <p:cNvSpPr/>
          <p:nvPr/>
        </p:nvSpPr>
        <p:spPr>
          <a:xfrm>
            <a:off x="6659640" y="2637000"/>
            <a:ext cx="1944720" cy="1079280"/>
          </a:xfrm>
          <a:prstGeom prst="rect">
            <a:avLst/>
          </a:prstGeom>
          <a:solidFill>
            <a:srgbClr val="fcd3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3924360" y="2637000"/>
            <a:ext cx="1944720" cy="1079280"/>
          </a:xfrm>
          <a:prstGeom prst="rect">
            <a:avLst/>
          </a:prstGeom>
          <a:solidFill>
            <a:srgbClr val="fcd3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1187280" y="2637000"/>
            <a:ext cx="1800360" cy="1079280"/>
          </a:xfrm>
          <a:prstGeom prst="rect">
            <a:avLst/>
          </a:prstGeom>
          <a:solidFill>
            <a:srgbClr val="fcd3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2"/>
          <p:cNvSpPr/>
          <p:nvPr/>
        </p:nvSpPr>
        <p:spPr>
          <a:xfrm>
            <a:off x="5508720" y="1413000"/>
            <a:ext cx="2448000" cy="1079280"/>
          </a:xfrm>
          <a:prstGeom prst="ellipse">
            <a:avLst/>
          </a:prstGeom>
          <a:solidFill>
            <a:srgbClr val="94e9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1"/>
          <p:cNvSpPr/>
          <p:nvPr/>
        </p:nvSpPr>
        <p:spPr>
          <a:xfrm>
            <a:off x="1692360" y="1413000"/>
            <a:ext cx="2448000" cy="1079280"/>
          </a:xfrm>
          <a:prstGeom prst="ellipse">
            <a:avLst/>
          </a:prstGeom>
          <a:solidFill>
            <a:srgbClr val="94e9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4"/>
          <p:cNvSpPr/>
          <p:nvPr/>
        </p:nvSpPr>
        <p:spPr>
          <a:xfrm>
            <a:off x="1258920" y="4653000"/>
            <a:ext cx="7424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ff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под действием фермента алкогольдегидрогеназа превращается в  ацетальдегид. Это вещество более ядовитое, чем сам алкоголь.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941760" y="28584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Обвините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2411280" y="2133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1477440" y="2924280"/>
            <a:ext cx="12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ловы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2126160" y="162864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коголь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гидроген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5942520" y="162864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ьдегид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гидроген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4067640" y="299736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цетальдег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6949800" y="29973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цетат-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6"/>
          <p:cNvSpPr/>
          <p:nvPr/>
        </p:nvSpPr>
        <p:spPr>
          <a:xfrm>
            <a:off x="2987640" y="321300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7"/>
          <p:cNvSpPr/>
          <p:nvPr/>
        </p:nvSpPr>
        <p:spPr>
          <a:xfrm>
            <a:off x="5867280" y="3213000"/>
            <a:ext cx="8654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8"/>
          <p:cNvSpPr/>
          <p:nvPr/>
        </p:nvSpPr>
        <p:spPr>
          <a:xfrm>
            <a:off x="3348000" y="2276640"/>
            <a:ext cx="7164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9"/>
          <p:cNvSpPr/>
          <p:nvPr/>
        </p:nvSpPr>
        <p:spPr>
          <a:xfrm flipH="1">
            <a:off x="6227640" y="2276640"/>
            <a:ext cx="14472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28480" y="571320"/>
            <a:ext cx="749916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ина влияния этилового спирта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интеллект человека</a:t>
            </a:r>
            <a:br>
              <a:rPr sz="34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214280" y="1428480"/>
            <a:ext cx="749952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вызывает эйфорию. Это наркотик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замедляет циркуляцию крови в сосудах мозга, приводит к постоянному кислородному голоданию его клеток, в результате у человека наблюдается</a:t>
            </a:r>
            <a:br>
              <a:rPr sz="2200"/>
            </a:b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лабление памяти и </a:t>
            </a:r>
            <a:br>
              <a:rPr sz="2200"/>
            </a:b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дленная </a:t>
            </a:r>
            <a:br>
              <a:rPr sz="2200"/>
            </a:b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сихическая </a:t>
            </a:r>
            <a:br>
              <a:rPr sz="2200"/>
            </a:b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градация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3" descr="Рисунок1"/>
          <p:cNvPicPr/>
          <p:nvPr/>
        </p:nvPicPr>
        <p:blipFill>
          <a:blip r:embed="rId1"/>
          <a:stretch/>
        </p:blipFill>
        <p:spPr>
          <a:xfrm>
            <a:off x="5065560" y="3054240"/>
            <a:ext cx="3524400" cy="343872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5"/>
          <p:cNvSpPr/>
          <p:nvPr/>
        </p:nvSpPr>
        <p:spPr>
          <a:xfrm>
            <a:off x="155880" y="21420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Обвините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31640" y="1052280"/>
            <a:ext cx="749916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Влияние алкоголя на организм человек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1332000" y="3357720"/>
            <a:ext cx="38163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звы в кишеч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к желу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к ко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13"/>
          <p:cNvSpPr/>
          <p:nvPr/>
        </p:nvSpPr>
        <p:spPr>
          <a:xfrm>
            <a:off x="584640" y="28584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Обвините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C:\Documents and Settings\Admin\Рабочий стол\10а\opukh-kosh.jpg"/>
          <p:cNvPicPr/>
          <p:nvPr/>
        </p:nvPicPr>
        <p:blipFill>
          <a:blip r:embed="rId1"/>
          <a:stretch/>
        </p:blipFill>
        <p:spPr>
          <a:xfrm>
            <a:off x="4716360" y="2565360"/>
            <a:ext cx="3214800" cy="1643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03280" y="549360"/>
            <a:ext cx="749952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вной</a:t>
            </a:r>
            <a:r>
              <a:rPr b="0" lang="ru-RU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алкоголизм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331640" y="2852280"/>
            <a:ext cx="7499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ужчин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ется гормон метилтестостерон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стаются грудные желез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яется «пивной» живо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женщин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ает вероятность заболевания раком грудной желез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беет голос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яются ус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Picture 2" descr="C:\Documents and Settings\Admin\Рабочий стол\Новая папка\pe02514_.gif"/>
          <p:cNvPicPr/>
          <p:nvPr/>
        </p:nvPicPr>
        <p:blipFill>
          <a:blip r:embed="rId1"/>
          <a:stretch/>
        </p:blipFill>
        <p:spPr>
          <a:xfrm>
            <a:off x="6143760" y="1143000"/>
            <a:ext cx="2643120" cy="214308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1370520" y="14292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Обвините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142560"/>
            <a:ext cx="7499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дицинская промышленность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547280" y="1341000"/>
            <a:ext cx="71694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иловый спирт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05600" indent="-266760" algn="r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используется как антисептик  (обеззараживающее) и подсушивающее средство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200" indent="-268200" algn="r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хороший растворитель для некоторых                     лекарственных вещест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200" indent="-268200" algn="r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200" indent="-2682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ицерин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створения веществ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ает влажность таблеткам и пилюлям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храняет от высыхания мази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рем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ff0000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Picture 2" descr="C:\Users\Настя\Desktop\artra.jpg"/>
          <p:cNvPicPr/>
          <p:nvPr/>
        </p:nvPicPr>
        <p:blipFill>
          <a:blip r:embed="rId1"/>
          <a:stretch/>
        </p:blipFill>
        <p:spPr>
          <a:xfrm>
            <a:off x="6076800" y="3486240"/>
            <a:ext cx="2122560" cy="2079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C:\Users\Настя\Desktop\f_16735159.jpg"/>
          <p:cNvPicPr/>
          <p:nvPr/>
        </p:nvPicPr>
        <p:blipFill>
          <a:blip r:embed="rId2"/>
          <a:stretch/>
        </p:blipFill>
        <p:spPr>
          <a:xfrm rot="240600">
            <a:off x="1692000" y="2060640"/>
            <a:ext cx="1498680" cy="2401920"/>
          </a:xfrm>
          <a:prstGeom prst="rect">
            <a:avLst/>
          </a:prstGeom>
          <a:ln w="0">
            <a:noFill/>
          </a:ln>
        </p:spPr>
      </p:pic>
      <p:sp>
        <p:nvSpPr>
          <p:cNvPr id="363" name="Прямоугольник 5"/>
          <p:cNvSpPr/>
          <p:nvPr/>
        </p:nvSpPr>
        <p:spPr>
          <a:xfrm>
            <a:off x="6795000" y="1429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Адвок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ицерин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00080" y="1356840"/>
            <a:ext cx="59292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 текстильной и кожевенной промышленност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ает тканям мягкость и эластичност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ся для дубления ко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ся  для консервирования ко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храняет кожи от высыха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6357960" y="1000080"/>
            <a:ext cx="2571840" cy="278604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4"/>
          <p:cNvSpPr/>
          <p:nvPr/>
        </p:nvSpPr>
        <p:spPr>
          <a:xfrm>
            <a:off x="6866280" y="3571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Адвок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3:52:46Z</dcterms:created>
  <dc:creator>Настя</dc:creator>
  <dc:description/>
  <dc:language>en-US</dc:language>
  <cp:lastModifiedBy>кабинет химии</cp:lastModifiedBy>
  <dcterms:modified xsi:type="dcterms:W3CDTF">2015-04-10T04:29:52Z</dcterms:modified>
  <cp:revision>90</cp:revision>
  <dc:subject/>
  <dc:title>Полезные качества спиртов</dc:title>
</cp:coreProperties>
</file>